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C933-1097-49D7-B157-CEE742A9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4B89-8CF4-40BE-9781-C27839B6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4EFD-05C9-4E04-8B7D-4B63D4F3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B5A4-1ADF-45DF-8692-429A31EA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59C4-D6AC-4F40-A0AC-FD54D9FD2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C6BE8-A463-481B-80D6-285544151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4442-57A3-4E4D-ABC0-02FCA2ACE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A624-3CCD-4543-8C0C-F687E703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047CE-F837-497C-833F-E30232DAD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CC292-029B-49C8-8CF8-24D081919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0DAD-52ED-4D68-9588-0CFC1CC43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A087-471E-4AFD-A539-D00D4A41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5B471-B838-41CC-9B4B-0DD489C6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BC2A-FE2B-487D-AA8B-3F854705F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4714A-3187-4E3B-8C1C-C957BAB5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8C3E-A14E-4CCF-A202-B080873FE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F7BE9-A3AD-4ABB-891F-A5DE146F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343A-700C-4EC2-9715-449BB0BB7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818-D2EC-44EC-956D-ADB21995A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C5ED-C968-4030-B736-A025A11F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1646-38AE-4D1C-BB27-6ED26FC23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3395-D986-47CB-964C-73DFC8A8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B32-5D6D-466E-A51F-5284F51A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73F6-EB0D-4833-BB06-C6B2C978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10DE-A6C2-44ED-80A3-E0B9F8FFD59B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BE84-59F1-48B5-84D8-577001D9C2C5}" type="slidenum">
              <a:rPr b="0" lang="en-GB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Verdana"/>
              </a:rPr>
              <a:t>Globalni barometar korupcije za 2005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Transparency Interna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i Gallup Internatio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9.Decembar 2005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3" name=""/>
          <p:cNvGraphicFramePr/>
          <p:nvPr/>
        </p:nvGraphicFramePr>
        <p:xfrm>
          <a:off x="0" y="549360"/>
          <a:ext cx="9144000" cy="5111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49360"/>
                    <a:ext cx="914400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0" y="333360"/>
          <a:ext cx="9144000" cy="5400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33360"/>
                    <a:ext cx="9144000" cy="54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" name=""/>
          <p:cNvGraphicFramePr/>
          <p:nvPr/>
        </p:nvGraphicFramePr>
        <p:xfrm>
          <a:off x="0" y="0"/>
          <a:ext cx="9144000" cy="5734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144000" cy="57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68360" y="1768320"/>
          <a:ext cx="8207280" cy="4354560"/>
        </p:xfrm>
        <a:graphic>
          <a:graphicData uri="http://schemas.openxmlformats.org/drawingml/2006/table">
            <a:tbl>
              <a:tblPr/>
              <a:tblGrid>
                <a:gridCol w="2641680"/>
                <a:gridCol w="556560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je od 25 ev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 do 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 do 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 do 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 do 1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 do 1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 do 2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 do 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 do 6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0 do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še od 8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ozn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dbija da odgov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400" spc="-1" strike="noStrike">
                <a:solidFill>
                  <a:srgbClr val="000000"/>
                </a:solidFill>
                <a:latin typeface="Verdana"/>
              </a:rPr>
              <a:t>Koliko ste dali kao mito (građani koji su platili mito u poslednjih godinu dana)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000000"/>
                </a:solidFill>
                <a:latin typeface="Verdana"/>
              </a:rPr>
              <a:t>Mito Vam je direktno traženo? (ispitanici oni koji su dali mito u poslednjih godinu dana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566640" y="1752480"/>
          <a:ext cx="8000640" cy="4265640"/>
        </p:xfrm>
        <a:graphic>
          <a:graphicData uri="http://schemas.openxmlformats.org/drawingml/2006/table">
            <a:tbl>
              <a:tblPr/>
              <a:tblGrid>
                <a:gridCol w="3377160"/>
                <a:gridCol w="4623480"/>
              </a:tblGrid>
              <a:tr h="14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z odgovo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nudili ste mito da biste razrešili problem sa vlastima? (ispitanici oni koji su dali mito u poslednjih godinu dan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566640" y="1752480"/>
          <a:ext cx="8000640" cy="4265640"/>
        </p:xfrm>
        <a:graphic>
          <a:graphicData uri="http://schemas.openxmlformats.org/drawingml/2006/table">
            <a:tbl>
              <a:tblPr/>
              <a:tblGrid>
                <a:gridCol w="3377160"/>
                <a:gridCol w="4623480"/>
              </a:tblGrid>
              <a:tr h="14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Ponudili ste mito da biste dobili nešto za šta nemate pravo? (ispitanici oni koji su dali mito u poslednjih godinu dan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66640" y="1752480"/>
          <a:ext cx="8000640" cy="4265640"/>
        </p:xfrm>
        <a:graphic>
          <a:graphicData uri="http://schemas.openxmlformats.org/drawingml/2006/table">
            <a:tbl>
              <a:tblPr/>
              <a:tblGrid>
                <a:gridCol w="3377160"/>
                <a:gridCol w="4623480"/>
              </a:tblGrid>
              <a:tr h="14216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220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Verdana"/>
              </a:rPr>
              <a:t>O istraživanju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Globalni barometar korupcije zasnovan je na iskustvima i stavovima građana pojedinih zemalja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Globalni barometar korupcije dopunjuje sliku koju pružaju druga istraživanja (na primer indeks percepcije korucpije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600" spc="-1" strike="noStrike">
                <a:solidFill>
                  <a:srgbClr val="000000"/>
                </a:solidFill>
                <a:latin typeface="Verdana"/>
              </a:rPr>
              <a:t>Globalni barometar korupcije se sprovodi po jedinstvenom upitniku širom svet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800" spc="-1" strike="noStrike">
                <a:solidFill>
                  <a:srgbClr val="000000"/>
                </a:solidFill>
                <a:latin typeface="Verdana"/>
              </a:rPr>
              <a:t>O istraživanju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Ovogodišnji barometar obuhvata 69 zemalja u kojima je ispitano preko 55 hiljada ljud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000" spc="-1" strike="noStrike">
                <a:solidFill>
                  <a:srgbClr val="000000"/>
                </a:solidFill>
                <a:latin typeface="Verdana"/>
              </a:rPr>
              <a:t>U Srbiji je istraživanje sproveo TNS Medium Gallup, na nacionalnom uzorku, metodom “lice u lice”, na uzorku od više od 1000 ispitanika u poslednjoj nedelji maja ove god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5" name=""/>
          <p:cNvGraphicFramePr/>
          <p:nvPr/>
        </p:nvGraphicFramePr>
        <p:xfrm>
          <a:off x="324000" y="404640"/>
          <a:ext cx="8496000" cy="5256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04640"/>
                    <a:ext cx="84960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395280" y="333360"/>
          <a:ext cx="8280360" cy="5327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333360"/>
                    <a:ext cx="8280360" cy="532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1" name=""/>
          <p:cNvGraphicFramePr/>
          <p:nvPr/>
        </p:nvGraphicFramePr>
        <p:xfrm>
          <a:off x="0" y="476280"/>
          <a:ext cx="9144000" cy="5184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6280"/>
                    <a:ext cx="9144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4" name=""/>
          <p:cNvGraphicFramePr/>
          <p:nvPr/>
        </p:nvGraphicFramePr>
        <p:xfrm>
          <a:off x="0" y="476280"/>
          <a:ext cx="9144000" cy="5184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6280"/>
                    <a:ext cx="9144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7" name=""/>
          <p:cNvGraphicFramePr/>
          <p:nvPr/>
        </p:nvGraphicFramePr>
        <p:xfrm>
          <a:off x="324000" y="476280"/>
          <a:ext cx="8424720" cy="51134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4000" y="476280"/>
                    <a:ext cx="842472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932360" y="5734080"/>
            <a:ext cx="4038480" cy="949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0" y="476280"/>
          <a:ext cx="9144000" cy="5184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476280"/>
                    <a:ext cx="914400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9T08:59:07Z</dcterms:created>
  <dc:creator>nemanja</dc:creator>
  <dc:description/>
  <dc:language>en-US</dc:language>
  <cp:lastModifiedBy>User</cp:lastModifiedBy>
  <dcterms:modified xsi:type="dcterms:W3CDTF">2014-03-27T14:24:58Z</dcterms:modified>
  <cp:revision>1</cp:revision>
  <dc:subject/>
  <dc:title>Globalni barometar korupcije za 2005</dc:title>
</cp:coreProperties>
</file>